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A08-4BDB-44A7-821E-888CF3AB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85A-2D79-48DD-B6B1-071270F9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4DE-9ADE-426F-897E-A8E29DE9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E9B-BF7A-4805-ADDB-B14E1026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0F4-D5C0-465C-8213-FAFF83C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CC9-8EC5-4A36-BB76-B5C2FCD8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523-AF53-4B2B-8C93-8890EAFA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998-9DB6-49CC-AFA4-3F2C0A91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855-0D45-4331-9DFF-C3848451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9DD-58F4-464F-90A3-830E19C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BD6-D866-417B-B49C-0A0713A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31E-37C5-4C5B-B661-EA21225C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A33F-D234-495F-BE50-A5278648B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3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ASSIMAG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ilation de données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ation CLIM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mps de mouvement et trajec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othèses de conservation applications atmosphér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61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e la luminanc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e la masse ou de la densité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ù     est la vitesse 3D du fl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ervation de la concentration, d’où l’équation d’advection-diffus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ù    représente la diffusion turbulente, fonction du ven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89560" y="1486080"/>
            <a:ext cx="3722760" cy="807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46080" y="3824280"/>
            <a:ext cx="335160" cy="405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41320" y="6240600"/>
            <a:ext cx="223920" cy="290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40440" y="6195960"/>
            <a:ext cx="1111320" cy="45576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733400" y="2963880"/>
            <a:ext cx="6100920" cy="803160"/>
            <a:chOff x="1733400" y="2963880"/>
            <a:chExt cx="6100920" cy="80316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1733400" y="2963880"/>
              <a:ext cx="2386080" cy="8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4329000" y="2975040"/>
              <a:ext cx="3505320" cy="75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133200" y="5065560"/>
            <a:ext cx="9042480" cy="798840"/>
            <a:chOff x="133200" y="5065560"/>
            <a:chExt cx="9042480" cy="79884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133200" y="5065560"/>
              <a:ext cx="4216320" cy="7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4316400" y="5100480"/>
              <a:ext cx="48592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èse de régular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9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peut choisir une régula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 div/curl d’ordre 1 ou 2 : (ici d’ordre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300720" y="1709640"/>
            <a:ext cx="387360" cy="319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15960" y="3232080"/>
            <a:ext cx="344520" cy="3445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-344520" y="2212920"/>
            <a:ext cx="6635880" cy="768240"/>
            <a:chOff x="-344520" y="2212920"/>
            <a:chExt cx="6635880" cy="76824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-344520" y="2292480"/>
              <a:ext cx="66121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2212920"/>
              <a:ext cx="3657600" cy="76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86240" y="2249640"/>
              <a:ext cx="1005120" cy="63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-766800" y="3602160"/>
            <a:ext cx="7132680" cy="804600"/>
            <a:chOff x="-766800" y="3602160"/>
            <a:chExt cx="7132680" cy="804600"/>
          </a:xfrm>
        </p:grpSpPr>
        <p:pic>
          <p:nvPicPr>
            <p:cNvPr id="95" name="" descr=""/>
            <p:cNvPicPr/>
            <p:nvPr/>
          </p:nvPicPr>
          <p:blipFill>
            <a:blip r:embed="rId4"/>
            <a:stretch/>
          </p:blipFill>
          <p:spPr>
            <a:xfrm>
              <a:off x="-712800" y="3682800"/>
              <a:ext cx="700884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-766800" y="3738240"/>
              <a:ext cx="4489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40520" y="3602160"/>
              <a:ext cx="1125360" cy="80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-1496880" y="5246640"/>
            <a:ext cx="8742240" cy="781200"/>
            <a:chOff x="-1496880" y="5246640"/>
            <a:chExt cx="8742240" cy="781200"/>
          </a:xfrm>
        </p:grpSpPr>
        <p:pic>
          <p:nvPicPr>
            <p:cNvPr id="99" name="" descr=""/>
            <p:cNvPicPr/>
            <p:nvPr/>
          </p:nvPicPr>
          <p:blipFill>
            <a:blip r:embed="rId5"/>
            <a:stretch/>
          </p:blipFill>
          <p:spPr>
            <a:xfrm>
              <a:off x="-1496880" y="5246640"/>
              <a:ext cx="87422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-1490760" y="5315040"/>
              <a:ext cx="4233960" cy="71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72280" y="5405400"/>
              <a:ext cx="96984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4960" y="1139760"/>
            <a:ext cx="60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herche un champ régulier spatia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8960" y="615960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océanographie : quelle régularité utilis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 en météor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7560" y="58831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quence Méteo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52800" y="2243160"/>
            <a:ext cx="3087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 en météor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846440" y="2197080"/>
          <a:ext cx="2639880" cy="26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6440" y="2197080"/>
                    <a:ext cx="2639880" cy="26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89640" y="2206800"/>
          <a:ext cx="2685960" cy="26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9640" y="2206800"/>
                    <a:ext cx="2685960" cy="26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146320" y="4917960"/>
            <a:ext cx="21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rvation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560" y="4921200"/>
            <a:ext cx="18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rvation 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 dens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 en océan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34784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14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91160" y="6394320"/>
            <a:ext cx="50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quence NOAA/AVHRR du golfe de Gasco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 en océan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52800" y="1455840"/>
            <a:ext cx="4986360" cy="4916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7992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240" y="6348240"/>
            <a:ext cx="87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rvation de la luminance avec nor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détection des points selles et noeu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égration du champ de mou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rajectoire est obtenue en intégrant le champ de vitesse à partir d’une position initia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équations différentielles de ce type sont résolvables par des schémas de types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unge-Kut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71840" y="2633760"/>
            <a:ext cx="21970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 en météor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43120" y="1933560"/>
          <a:ext cx="385776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1933560"/>
                    <a:ext cx="38577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 en océan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867040" y="2228760"/>
          <a:ext cx="340992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2228760"/>
                    <a:ext cx="340992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mé des apports potent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mps denses de vit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ité d’incorporer les lois physiques d’évolution et de régularit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ctoires denses et comparables aux boué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alid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èmes à résoudre : couverture nuageuse, échantillonnage tempor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i trop important : choisir des méthodes d’appari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ASS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ottes polaires et glac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lanches et coulées de bo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céanogra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pes tourbill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mé des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type de structures est il pertinent de suivre en océanographie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s déformations subissent-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s sont les hypothèses de conservation que l’on peut utiliser (température, concentration du plancton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∂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∂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s hypothèses de régularité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éan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milation de données lagrangienn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jectoires de traceurs : bouées, balises Argo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x approches images pour obtenir des trajectoi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jectoires de points caractéristiques obtenus par identification et suivi de structures déform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égration d’un champ de mou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cation et suivi de structures déform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24560" y="4398840"/>
            <a:ext cx="2941560" cy="2764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r des traceurs de mouv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 type de traceur utiliser en océanographie ?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suivre au cours du temp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 type de déformation peuvent subir ces structures océanographiqu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emple : suivi de structures météorologiqu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7920" y="4735440"/>
            <a:ext cx="2403720" cy="204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489480" y="4735440"/>
            <a:ext cx="24033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cation et suivi de structures déform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forme d’une structure peut renseigner sur le mouve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cherche un champ de mouvement orthogonal au gradient de l’image et de propriétés spatiales (div et curl) do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6120" y="3198960"/>
            <a:ext cx="5292720" cy="2646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0600" y="6041880"/>
            <a:ext cx="78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quence NOAA-AVHRR de température de surface dans la mer d’Alb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ction des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00000" y="2421000"/>
          <a:ext cx="279108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21000"/>
                    <a:ext cx="279108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780000" y="2492280"/>
          <a:ext cx="226368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492280"/>
                    <a:ext cx="226368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156360" y="2492280"/>
          <a:ext cx="22795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2492280"/>
                    <a:ext cx="22795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On cherche le champs de vecteurs </a:t>
            </a:r>
            <a:r>
              <a:rPr b="0" i="1" lang="fr-FR" sz="2700" spc="-1" strike="noStrike">
                <a:solidFill>
                  <a:srgbClr val="000000"/>
                </a:solidFill>
                <a:latin typeface="Arial"/>
              </a:rPr>
              <a:t>spline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 qui minimise 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Où      sont les vecteurs tangents calculés en chaque point    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604000" cy="871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16000" y="397188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28840" y="4476600"/>
            <a:ext cx="3348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31920" y="1430280"/>
            <a:ext cx="8545320" cy="5427720"/>
            <a:chOff x="331920" y="1430280"/>
            <a:chExt cx="8545320" cy="5427720"/>
          </a:xfrm>
        </p:grpSpPr>
        <p:sp>
          <p:nvSpPr>
            <p:cNvPr id="70" name=""/>
            <p:cNvSpPr/>
            <p:nvPr/>
          </p:nvSpPr>
          <p:spPr>
            <a:xfrm>
              <a:off x="331920" y="1430280"/>
              <a:ext cx="8545320" cy="542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808280" y="1562040"/>
              <a:ext cx="5995800" cy="508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 de champs dense de mouvement (fl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9760" y="1790640"/>
            <a:ext cx="871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herche à estimer, en tout point de la séquence, le vecteur vitesse en résolvant une équation de con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équation traduit des propriétés physiques sur l’évolution de la variable observ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peut-on dire pour les données SST ou couleur de l’océa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contrainte de régularité est nécessaire pour lever le problème d’ouver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tte équation traduit les propriétés physiques sur la régularité des variables observé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lle régularité spatiale existe sur les champs de mouvement en océanographi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27:29Z</dcterms:created>
  <dc:creator>Etienne Huot</dc:creator>
  <dc:description/>
  <dc:language>en-US</dc:language>
  <cp:lastModifiedBy>Etienne Huot</cp:lastModifiedBy>
  <dcterms:modified xsi:type="dcterms:W3CDTF">2004-01-19T07:42:07Z</dcterms:modified>
  <cp:revision>28</cp:revision>
  <dc:subject/>
  <dc:title>ASSIMAGE</dc:title>
</cp:coreProperties>
</file>