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35200"/>
            <a:ext cx="822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35200"/>
            <a:ext cx="40158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35200"/>
            <a:ext cx="40158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35200"/>
            <a:ext cx="264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35200"/>
            <a:ext cx="264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35200"/>
            <a:ext cx="264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32000" y="404640"/>
            <a:ext cx="73548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435200"/>
            <a:ext cx="40158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435200"/>
            <a:ext cx="40158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35200"/>
            <a:ext cx="822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435200"/>
            <a:ext cx="822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435200"/>
            <a:ext cx="40158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435200"/>
            <a:ext cx="40158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435200"/>
            <a:ext cx="264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435200"/>
            <a:ext cx="264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435200"/>
            <a:ext cx="264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32000" y="404640"/>
            <a:ext cx="73548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35200"/>
            <a:ext cx="40158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35200"/>
            <a:ext cx="40158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35200"/>
            <a:ext cx="822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b6f6"/>
            </a:gs>
            <a:gs pos="100000">
              <a:srgbClr val="ccdc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b6f6"/>
            </a:gs>
            <a:gs pos="100000">
              <a:srgbClr val="ccdc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87280" y="404640"/>
            <a:ext cx="590076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b6f6"/>
            </a:gs>
            <a:gs pos="100000">
              <a:srgbClr val="ccdc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87280" y="404640"/>
            <a:ext cx="590076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66"/>
                </a:solidFill>
                <a:latin typeface="Tahoma"/>
              </a:rPr>
              <a:t>Calottes polaires et glaciers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3366"/>
                </a:solidFill>
                <a:latin typeface="Tahoma"/>
              </a:rPr>
              <a:t>Assimilation de données d’extension de calottes  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66200" y="6021360"/>
            <a:ext cx="8209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6699"/>
                </a:solidFill>
                <a:latin typeface="Tahoma"/>
              </a:rPr>
              <a:t>Réunion ASSIMAGE 19 janvier 2004.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b6f6"/>
            </a:gs>
            <a:gs pos="100000">
              <a:srgbClr val="ccdc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99"/>
                </a:solidFill>
                <a:latin typeface="Tahoma"/>
              </a:rPr>
              <a:t>Calcule </a:t>
            </a:r>
            <a:r>
              <a:rPr b="0" lang="fr-FR" sz="2400" spc="-1" strike="noStrike">
                <a:solidFill>
                  <a:srgbClr val="cc0000"/>
                </a:solidFill>
                <a:latin typeface="Tahoma"/>
              </a:rPr>
              <a:t>l’épaisseur de glace</a:t>
            </a:r>
            <a:r>
              <a:rPr b="0" lang="fr-FR" sz="2400" spc="-1" strike="noStrike">
                <a:solidFill>
                  <a:srgbClr val="336699"/>
                </a:solidFill>
                <a:latin typeface="Tahoma"/>
              </a:rPr>
              <a:t> au cours du temps en tous points du domaine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99"/>
                </a:solidFill>
                <a:latin typeface="Tahoma"/>
              </a:rPr>
              <a:t>En réponse à des </a:t>
            </a:r>
            <a:r>
              <a:rPr b="0" lang="fr-FR" sz="2400" spc="-1" strike="noStrike">
                <a:solidFill>
                  <a:srgbClr val="cc0000"/>
                </a:solidFill>
                <a:latin typeface="Tahoma"/>
              </a:rPr>
              <a:t>conditions climatiques</a:t>
            </a:r>
            <a:r>
              <a:rPr b="0" lang="fr-FR" sz="2400" spc="-1" strike="noStrike">
                <a:solidFill>
                  <a:srgbClr val="336699"/>
                </a:solidFill>
                <a:latin typeface="Tahoma"/>
              </a:rPr>
              <a:t> variables (température, précipitation, niveau des mers.)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99"/>
                </a:solidFill>
                <a:latin typeface="Tahoma"/>
              </a:rPr>
              <a:t>En tenant compte de </a:t>
            </a:r>
            <a:r>
              <a:rPr b="0" lang="fr-FR" sz="2400" spc="-1" strike="noStrike">
                <a:solidFill>
                  <a:srgbClr val="cc0000"/>
                </a:solidFill>
                <a:latin typeface="Tahoma"/>
              </a:rPr>
              <a:t>mécanismes interne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99"/>
                </a:solidFill>
                <a:latin typeface="Tahoma"/>
              </a:rPr>
              <a:t>Écoulement de la glace, couplage thermo-mécanique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1332000" y="40464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66"/>
                </a:solidFill>
                <a:latin typeface="Tahoma"/>
              </a:rPr>
              <a:t>Modèle direct d’évolution de calotte polaire ou de glacier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b6f6"/>
            </a:gs>
            <a:gs pos="100000">
              <a:srgbClr val="ccdc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7354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66"/>
                </a:solidFill>
                <a:latin typeface="Tahoma"/>
              </a:rPr>
              <a:t>Données disponibles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699920"/>
            <a:ext cx="8686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99"/>
                </a:solidFill>
                <a:latin typeface="Tahoma"/>
              </a:rPr>
              <a:t>L’échelle de temps typique des calottes polaires est           &gt; 10 000 an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99"/>
                </a:solidFill>
                <a:latin typeface="Tahoma"/>
              </a:rPr>
              <a:t>En ce qui concerne les variables pronostiques on ne dispose que de l’état  actuel (altitude de la surface, température dans la glace) 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99"/>
                </a:solidFill>
                <a:latin typeface="Tahoma"/>
              </a:rPr>
              <a:t>Autres données :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99"/>
                </a:solidFill>
                <a:latin typeface="Tahoma"/>
              </a:rPr>
              <a:t>Extensions des calottes par des moraines datées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99"/>
                </a:solidFill>
                <a:latin typeface="Tahoma"/>
              </a:rPr>
              <a:t>Direction de l’écoulement passé 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99"/>
                </a:solidFill>
                <a:latin typeface="Tahoma"/>
              </a:rPr>
              <a:t>Échos radars : couches internes donnant des isochrone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b6f6"/>
            </a:gs>
            <a:gs pos="100000">
              <a:srgbClr val="ccdc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403848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6699"/>
                </a:solidFill>
                <a:latin typeface="Tahoma"/>
              </a:rPr>
              <a:t>Exemple : 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336699"/>
                </a:solidFill>
                <a:latin typeface="Tahoma"/>
              </a:rPr>
              <a:t>reconstruction de la calotte sur l’Europe du nord à partir de données géomorphologiques.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6699"/>
                </a:solidFill>
                <a:latin typeface="Tahoma"/>
              </a:rPr>
              <a:t>               </a:t>
            </a:r>
            <a:r>
              <a:rPr b="0" i="1" lang="fr-FR" sz="2000" spc="-1" strike="noStrike">
                <a:solidFill>
                  <a:srgbClr val="336699"/>
                </a:solidFill>
                <a:latin typeface="Tahoma"/>
              </a:rPr>
              <a:t>(d’après Hatestrand)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076720" y="404640"/>
            <a:ext cx="370836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b6f6"/>
            </a:gs>
            <a:gs pos="100000">
              <a:srgbClr val="ccdc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6360" y="1217520"/>
            <a:ext cx="8316720" cy="4948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24360" y="6237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336699"/>
                </a:solidFill>
                <a:latin typeface="Tahoma"/>
              </a:rPr>
              <a:t>Bindshadler et Bentley,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b6f6"/>
            </a:gs>
            <a:gs pos="100000">
              <a:srgbClr val="ccdc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ahoma"/>
              </a:rPr>
              <a:t>Dans le cadre d’ASSIMAGE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6699"/>
                </a:solidFill>
                <a:latin typeface="Tahoma"/>
              </a:rPr>
              <a:t>Etude de faisabilité : Comment contraindre un modèle de calotte à l’aide de données d’extension.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6699"/>
                </a:solidFill>
                <a:latin typeface="Tahoma"/>
              </a:rPr>
              <a:t>Utilisation d’un modèle simplifié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6699"/>
                </a:solidFill>
                <a:latin typeface="Tahoma"/>
              </a:rPr>
              <a:t>Recherche des variations climatiques responsables des variations d’extension.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6699"/>
                </a:solidFill>
                <a:latin typeface="Tahoma"/>
              </a:rPr>
              <a:t>DEA ?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6699"/>
                </a:solidFill>
                <a:latin typeface="Tahoma"/>
              </a:rPr>
              <a:t>Ensuite, application aux calottes réelles.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b6f6"/>
            </a:gs>
            <a:gs pos="100000">
              <a:srgbClr val="ccdc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b6f6"/>
            </a:gs>
            <a:gs pos="100000">
              <a:srgbClr val="ccdc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640"/>
            <a:ext cx="7343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66"/>
                </a:solidFill>
                <a:latin typeface="Tahoma"/>
              </a:rPr>
              <a:t>Echos radar en Antarctique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3848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48320" y="2060280"/>
            <a:ext cx="4038480" cy="45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0360" y="1916280"/>
            <a:ext cx="896148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07:14:44Z</dcterms:created>
  <dc:creator>Catritz</dc:creator>
  <dc:description/>
  <dc:language>en-US</dc:language>
  <cp:lastModifiedBy>Catritz</cp:lastModifiedBy>
  <dcterms:modified xsi:type="dcterms:W3CDTF">2004-01-19T08:12:01Z</dcterms:modified>
  <cp:revision>4</cp:revision>
  <dc:subject/>
  <dc:title>La cryosphère   continenta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