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3E05-95D8-43AE-9725-5B0A5AA3A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2099-2309-4075-8FB5-E481CB76D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38BB-BB66-4A3C-B24B-45308D21B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92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92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92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513C-DBAF-4797-90E7-A82DAC346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6E2B-027E-4C5D-9C3F-F8C08694B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950F-9E88-4677-9399-253DBF4AE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EDC1-E696-46EE-83C4-22409178A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45A5-2E79-4B8C-9D3B-0E0A36C81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AC66-DA69-4F2C-9F47-DB5E22AC0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6263-ED58-40EB-A648-85EF97A29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92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A2A3-7D8A-4945-8BCD-D0D693349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92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AEC7-CC1A-4515-97C5-1F9234689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9CBC-F011-4347-82BC-68C878467E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bann02" descr=""/>
          <p:cNvPicPr/>
          <p:nvPr/>
        </p:nvPicPr>
        <p:blipFill>
          <a:blip r:embed="rId3"/>
          <a:stretch/>
        </p:blipFill>
        <p:spPr>
          <a:xfrm>
            <a:off x="685800" y="6477120"/>
            <a:ext cx="2879640" cy="27000"/>
          </a:xfrm>
          <a:prstGeom prst="rect">
            <a:avLst/>
          </a:prstGeom>
          <a:ln w="0">
            <a:noFill/>
          </a:ln>
        </p:spPr>
      </p:pic>
      <p:pic>
        <p:nvPicPr>
          <p:cNvPr id="4" name="bann02" descr=""/>
          <p:cNvPicPr/>
          <p:nvPr/>
        </p:nvPicPr>
        <p:blipFill>
          <a:blip r:embed="rId4"/>
          <a:stretch/>
        </p:blipFill>
        <p:spPr>
          <a:xfrm>
            <a:off x="5562720" y="6477120"/>
            <a:ext cx="2879640" cy="27000"/>
          </a:xfrm>
          <a:prstGeom prst="rect">
            <a:avLst/>
          </a:prstGeom>
          <a:ln w="0">
            <a:noFill/>
          </a:ln>
        </p:spPr>
      </p:pic>
      <p:pic>
        <p:nvPicPr>
          <p:cNvPr id="5" name="logo_sophia" descr=""/>
          <p:cNvPicPr/>
          <p:nvPr/>
        </p:nvPicPr>
        <p:blipFill>
          <a:blip r:embed="rId5"/>
          <a:stretch/>
        </p:blipFill>
        <p:spPr>
          <a:xfrm>
            <a:off x="3962520" y="6248520"/>
            <a:ext cx="1352520" cy="366480"/>
          </a:xfrm>
          <a:prstGeom prst="rect">
            <a:avLst/>
          </a:prstGeom>
          <a:ln w="0">
            <a:noFill/>
          </a:ln>
        </p:spPr>
      </p:pic>
      <p:pic>
        <p:nvPicPr>
          <p:cNvPr id="6" name="bann02" descr=""/>
          <p:cNvPicPr/>
          <p:nvPr/>
        </p:nvPicPr>
        <p:blipFill>
          <a:blip r:embed="rId6"/>
          <a:stretch/>
        </p:blipFill>
        <p:spPr>
          <a:xfrm>
            <a:off x="685800" y="152280"/>
            <a:ext cx="7737480" cy="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An Electro-Mechanical Model of the Heart for Cardiac Imag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960" y="4419720"/>
            <a:ext cx="20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pida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piLogoTrans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362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xime Sermes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3720" y="30481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rvé Deling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720" y="37339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cholas Ay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eurpotentielecho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435480" cy="35816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6630480" y="2362320"/>
            <a:ext cx="2302200" cy="1784880"/>
            <a:chOff x="6630480" y="2362320"/>
            <a:chExt cx="2302200" cy="1784880"/>
          </a:xfrm>
        </p:grpSpPr>
        <p:sp>
          <p:nvSpPr>
            <p:cNvPr id="51" name=""/>
            <p:cNvSpPr/>
            <p:nvPr/>
          </p:nvSpPr>
          <p:spPr>
            <a:xfrm>
              <a:off x="6630480" y="2362320"/>
              <a:ext cx="23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Yves Coudiè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45680" y="3200040"/>
              <a:ext cx="207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Jean-Anto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Désidér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164360" y="434340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_sinus-entier" descr=""/>
          <p:cNvPicPr/>
          <p:nvPr/>
        </p:nvPicPr>
        <p:blipFill>
          <a:blip r:embed="rId4"/>
          <a:stretch/>
        </p:blipFill>
        <p:spPr>
          <a:xfrm>
            <a:off x="7391520" y="5181480"/>
            <a:ext cx="91440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Geometric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ata of a canine heart from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oengineering Research Group, University of Auckland, New Zealand.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esc.auckland.ac.nz/Groups/Bio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se data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) hexahedral mes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) muscle fibre dir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t each no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hexafibre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26640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191120" y="5638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5867280"/>
            <a:ext cx="38124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563868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i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C316-E2A1-4BD3-B4F1-359CC563E5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Geometric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ace-scale of electrical phenomenon much smaller than elements       finer tetrahedral mesh (interpolation of position and fibre dire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hexafibre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7385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tetrafibre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3124440" cy="27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754560" y="5867280"/>
            <a:ext cx="29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256 nodes, 180 hexahed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25120" y="5867280"/>
            <a:ext cx="33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3700 nodes, 17000 tetrahed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6400" y="25909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itial: hexahed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87720" y="25909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nal: tetrahed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5334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5562720"/>
            <a:ext cx="38088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53341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i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523880"/>
            <a:ext cx="519120" cy="486000"/>
          </a:xfrm>
          <a:prstGeom prst="rightArrow">
            <a:avLst>
              <a:gd name="adj1" fmla="val 50000"/>
              <a:gd name="adj2" fmla="val 2670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B128-34D6-48DF-A176-B4410D0B6A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Times New Roman"/>
              </a:rPr>
              <a:t>Cardiac Image Intera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Times New Roman"/>
              </a:rPr>
              <a:t>Geometri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eating Hear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Times New Roman"/>
              </a:rPr>
              <a:t>Electro-mechan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D905-DD61-40CB-B438-FA0AD3984E9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urkinjered" descr=""/>
          <p:cNvPicPr/>
          <p:nvPr/>
        </p:nvPicPr>
        <p:blipFill>
          <a:blip r:embed="rId2"/>
          <a:stretch/>
        </p:blipFill>
        <p:spPr>
          <a:xfrm>
            <a:off x="3581280" y="1066680"/>
            <a:ext cx="5334120" cy="38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Heart Electrical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cg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6067440" cy="19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04920" y="2819520"/>
            <a:ext cx="228600" cy="2514600"/>
          </a:xfrm>
          <a:prstGeom prst="downArrow">
            <a:avLst>
              <a:gd name="adj1" fmla="val 40278"/>
              <a:gd name="adj2" fmla="val 1180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800" y="2819520"/>
            <a:ext cx="162396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Times New Roman"/>
              </a:rPr>
              <a:t>A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Times New Roman"/>
              </a:rPr>
              <a:t>depola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38098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2000" y="3657600"/>
            <a:ext cx="16239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ntr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ola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819520"/>
            <a:ext cx="304920" cy="2438280"/>
          </a:xfrm>
          <a:prstGeom prst="downArrow">
            <a:avLst>
              <a:gd name="adj1" fmla="val 30556"/>
              <a:gd name="adj2" fmla="val 8588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7280" y="2819520"/>
            <a:ext cx="158112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ntr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pola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1828800"/>
            <a:ext cx="5334120" cy="3962520"/>
            <a:chOff x="228600" y="1828800"/>
            <a:chExt cx="5334120" cy="3962520"/>
          </a:xfrm>
        </p:grpSpPr>
        <p:sp>
          <p:nvSpPr>
            <p:cNvPr id="147" name=""/>
            <p:cNvSpPr/>
            <p:nvPr/>
          </p:nvSpPr>
          <p:spPr>
            <a:xfrm>
              <a:off x="228600" y="563868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0080" y="1828800"/>
              <a:ext cx="15264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105520" y="1676520"/>
            <a:ext cx="2209680" cy="685800"/>
            <a:chOff x="5105520" y="1676520"/>
            <a:chExt cx="2209680" cy="685800"/>
          </a:xfrm>
        </p:grpSpPr>
        <p:sp>
          <p:nvSpPr>
            <p:cNvPr id="150" name=""/>
            <p:cNvSpPr/>
            <p:nvPr/>
          </p:nvSpPr>
          <p:spPr>
            <a:xfrm>
              <a:off x="5105520" y="220968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19920" y="198108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62920" y="1676520"/>
              <a:ext cx="152280" cy="15228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105520" y="1981080"/>
            <a:ext cx="2743200" cy="838440"/>
            <a:chOff x="5105520" y="1981080"/>
            <a:chExt cx="2743200" cy="838440"/>
          </a:xfrm>
        </p:grpSpPr>
        <p:sp>
          <p:nvSpPr>
            <p:cNvPr id="154" name=""/>
            <p:cNvSpPr/>
            <p:nvPr/>
          </p:nvSpPr>
          <p:spPr>
            <a:xfrm>
              <a:off x="5105520" y="2666880"/>
              <a:ext cx="15228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6080" y="1981080"/>
              <a:ext cx="152640" cy="15264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09480" y="2438280"/>
            <a:ext cx="5257800" cy="3353040"/>
            <a:chOff x="609480" y="2438280"/>
            <a:chExt cx="5257800" cy="3353040"/>
          </a:xfrm>
        </p:grpSpPr>
        <p:sp>
          <p:nvSpPr>
            <p:cNvPr id="157" name=""/>
            <p:cNvSpPr/>
            <p:nvPr/>
          </p:nvSpPr>
          <p:spPr>
            <a:xfrm>
              <a:off x="609480" y="5638680"/>
              <a:ext cx="152640" cy="152640"/>
            </a:xfrm>
            <a:prstGeom prst="flowChartConnector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2438280"/>
              <a:ext cx="152280" cy="152640"/>
            </a:xfrm>
            <a:prstGeom prst="flowChartConnector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914400" y="2362320"/>
            <a:ext cx="5410080" cy="3429000"/>
            <a:chOff x="914400" y="2362320"/>
            <a:chExt cx="5410080" cy="3429000"/>
          </a:xfrm>
        </p:grpSpPr>
        <p:sp>
          <p:nvSpPr>
            <p:cNvPr id="160" name=""/>
            <p:cNvSpPr/>
            <p:nvPr/>
          </p:nvSpPr>
          <p:spPr>
            <a:xfrm>
              <a:off x="914400" y="5638680"/>
              <a:ext cx="152280" cy="1526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72200" y="236232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705720" y="28195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6576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40384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441972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2971800"/>
            <a:ext cx="6858000" cy="2819520"/>
            <a:chOff x="1295280" y="2971800"/>
            <a:chExt cx="6858000" cy="2819520"/>
          </a:xfrm>
        </p:grpSpPr>
        <p:sp>
          <p:nvSpPr>
            <p:cNvPr id="167" name=""/>
            <p:cNvSpPr/>
            <p:nvPr/>
          </p:nvSpPr>
          <p:spPr>
            <a:xfrm>
              <a:off x="1295280" y="5638680"/>
              <a:ext cx="152640" cy="15264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1000" y="2971800"/>
              <a:ext cx="152280" cy="1522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6400" y="3733920"/>
              <a:ext cx="152280" cy="1522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066680" y="4343400"/>
            <a:ext cx="7010640" cy="685800"/>
            <a:chOff x="1066680" y="4343400"/>
            <a:chExt cx="7010640" cy="685800"/>
          </a:xfrm>
        </p:grpSpPr>
        <p:sp>
          <p:nvSpPr>
            <p:cNvPr id="171" name=""/>
            <p:cNvSpPr/>
            <p:nvPr/>
          </p:nvSpPr>
          <p:spPr>
            <a:xfrm>
              <a:off x="1066680" y="4876920"/>
              <a:ext cx="152640" cy="1522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4680" y="4343400"/>
              <a:ext cx="152640" cy="1522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8320"/>
              <a:ext cx="152280" cy="1522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43000" y="3581280"/>
            <a:ext cx="7086600" cy="2438640"/>
            <a:chOff x="1143000" y="3581280"/>
            <a:chExt cx="7086600" cy="2438640"/>
          </a:xfrm>
        </p:grpSpPr>
        <p:sp>
          <p:nvSpPr>
            <p:cNvPr id="175" name=""/>
            <p:cNvSpPr/>
            <p:nvPr/>
          </p:nvSpPr>
          <p:spPr>
            <a:xfrm>
              <a:off x="1143000" y="5867280"/>
              <a:ext cx="152280" cy="15264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77320" y="3581280"/>
              <a:ext cx="152280" cy="15264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400" y="4267080"/>
              <a:ext cx="152280" cy="15264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76520" y="2514600"/>
            <a:ext cx="6324480" cy="3276720"/>
            <a:chOff x="1676520" y="2514600"/>
            <a:chExt cx="6324480" cy="3276720"/>
          </a:xfrm>
        </p:grpSpPr>
        <p:sp>
          <p:nvSpPr>
            <p:cNvPr id="179" name=""/>
            <p:cNvSpPr/>
            <p:nvPr/>
          </p:nvSpPr>
          <p:spPr>
            <a:xfrm>
              <a:off x="1676520" y="5638680"/>
              <a:ext cx="152280" cy="15264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81480" y="3124080"/>
              <a:ext cx="152640" cy="15264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48720" y="2514600"/>
              <a:ext cx="152280" cy="15228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057400" y="4343400"/>
            <a:ext cx="6019920" cy="1371600"/>
            <a:chOff x="2057400" y="4343400"/>
            <a:chExt cx="6019920" cy="1371600"/>
          </a:xfrm>
        </p:grpSpPr>
        <p:sp>
          <p:nvSpPr>
            <p:cNvPr id="183" name=""/>
            <p:cNvSpPr/>
            <p:nvPr/>
          </p:nvSpPr>
          <p:spPr>
            <a:xfrm>
              <a:off x="2057400" y="5562720"/>
              <a:ext cx="15228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5200" y="4648320"/>
              <a:ext cx="15228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24680" y="4343400"/>
              <a:ext cx="15264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362320" y="3581280"/>
            <a:ext cx="5867280" cy="2057400"/>
            <a:chOff x="2362320" y="3581280"/>
            <a:chExt cx="5867280" cy="2057400"/>
          </a:xfrm>
        </p:grpSpPr>
        <p:sp>
          <p:nvSpPr>
            <p:cNvPr id="187" name=""/>
            <p:cNvSpPr/>
            <p:nvPr/>
          </p:nvSpPr>
          <p:spPr>
            <a:xfrm>
              <a:off x="2362320" y="5486400"/>
              <a:ext cx="15228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9400" y="4267080"/>
              <a:ext cx="152280" cy="15264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77320" y="3581280"/>
              <a:ext cx="152280" cy="15264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590920" y="2971800"/>
            <a:ext cx="5562360" cy="2743200"/>
            <a:chOff x="2590920" y="2971800"/>
            <a:chExt cx="5562360" cy="2743200"/>
          </a:xfrm>
        </p:grpSpPr>
        <p:sp>
          <p:nvSpPr>
            <p:cNvPr id="191" name=""/>
            <p:cNvSpPr/>
            <p:nvPr/>
          </p:nvSpPr>
          <p:spPr>
            <a:xfrm>
              <a:off x="2590920" y="5562720"/>
              <a:ext cx="15228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6400" y="3733920"/>
              <a:ext cx="15228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01000" y="2971800"/>
              <a:ext cx="15228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895480" y="2514600"/>
            <a:ext cx="5105520" cy="3200400"/>
            <a:chOff x="2895480" y="2514600"/>
            <a:chExt cx="5105520" cy="3200400"/>
          </a:xfrm>
        </p:grpSpPr>
        <p:sp>
          <p:nvSpPr>
            <p:cNvPr id="195" name=""/>
            <p:cNvSpPr/>
            <p:nvPr/>
          </p:nvSpPr>
          <p:spPr>
            <a:xfrm>
              <a:off x="2895480" y="5562720"/>
              <a:ext cx="15264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1480" y="3124080"/>
              <a:ext cx="152640" cy="15264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2514600"/>
              <a:ext cx="152280" cy="152280"/>
            </a:xfrm>
            <a:prstGeom prst="flowChartConnector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7070-32F1-4240-85A9-2B2CFF7B3D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Electric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ion potential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mpu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tzHugh-Nagum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eaction-Diffus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quatio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isotropic diffusion tensor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sed on the fibre dir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77160" y="3429000"/>
            <a:ext cx="3117240" cy="22885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tion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ffusion t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onic current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polarisation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larisa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larisation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3352680"/>
                <a:ext cx="41148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DΔu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990720" y="3429000"/>
            <a:ext cx="198108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3429000"/>
            <a:ext cx="914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429000"/>
            <a:ext cx="30492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735E-F7DE-4422-995C-20CE69FFC51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Electrical Model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3581640" cy="3195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36640" y="472428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sotropic Diffusion T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724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isotropic Diffusion T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48520" y="5410080"/>
            <a:ext cx="2206440" cy="764640"/>
            <a:chOff x="6248520" y="5410080"/>
            <a:chExt cx="2206440" cy="764640"/>
          </a:xfrm>
        </p:grpSpPr>
        <p:sp>
          <p:nvSpPr>
            <p:cNvPr id="210" name=""/>
            <p:cNvSpPr/>
            <p:nvPr/>
          </p:nvSpPr>
          <p:spPr>
            <a:xfrm>
              <a:off x="6248520" y="5410080"/>
              <a:ext cx="2133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840" y="5638680"/>
              <a:ext cx="380880" cy="76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05000" y="5410080"/>
              <a:ext cx="14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polar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840" y="5943600"/>
              <a:ext cx="38088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4640" y="571500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depolar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09480" y="52578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itial Conditions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wave started near the apex for these sim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419720" y="934920"/>
            <a:ext cx="4495680" cy="38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D15C-321B-48EF-8F4E-0D8C06FBA9D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Electrical Model:</a:t>
            </a:r>
            <a:br>
              <a:rPr sz="4400"/>
            </a:b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simulating singula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419360" cy="3808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4495680" cy="387504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6172200" y="5486400"/>
            <a:ext cx="2206440" cy="764640"/>
            <a:chOff x="6172200" y="5486400"/>
            <a:chExt cx="2206440" cy="764640"/>
          </a:xfrm>
        </p:grpSpPr>
        <p:sp>
          <p:nvSpPr>
            <p:cNvPr id="221" name=""/>
            <p:cNvSpPr/>
            <p:nvPr/>
          </p:nvSpPr>
          <p:spPr>
            <a:xfrm>
              <a:off x="6172200" y="5486400"/>
              <a:ext cx="2133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8520" y="5715000"/>
              <a:ext cx="380880" cy="76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28680" y="5486400"/>
              <a:ext cx="14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polar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48520" y="6019920"/>
              <a:ext cx="38088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8320" y="579132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depolari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62120" y="53341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itial Conditions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wave started near the apex for these sim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068C-3B54-465C-A8DC-6A9EFC115EA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Times New Roman"/>
              </a:rPr>
              <a:t>Cardiac Image Intera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Times New Roman"/>
              </a:rPr>
              <a:t>Geometri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eating Hear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Times New Roman"/>
              </a:rPr>
              <a:t>Electr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o-Mechan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F2F1-1CB5-4A0A-9683-D446480FB9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Myocardium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yocardium is composed of muscle fibre bund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an active non-linear viscoelastic anisotropic incompressibl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fibres1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2438280" cy="23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fibres2" descr=""/>
          <p:cNvPicPr/>
          <p:nvPr/>
        </p:nvPicPr>
        <p:blipFill>
          <a:blip r:embed="rId3"/>
          <a:stretch/>
        </p:blipFill>
        <p:spPr>
          <a:xfrm>
            <a:off x="4648320" y="2438280"/>
            <a:ext cx="2514600" cy="23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7234-8A37-4BB6-9347-E7D6D19D5C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Electro-Mechanical cou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1371600"/>
            <a:ext cx="708660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ction potential 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controls the contractile elemen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n-GB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&gt; 0              Contra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&lt; 0              Active relax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lso modifies stiffness 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long fibre dir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4038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41C6-FBB1-46F6-B3A5-3E61963EAA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Clinical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ssess ventricular function parameters from medical imag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jection fractio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yocardium wall thicknes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al strain and st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5FD2-D4E8-4820-B51A-3285B62FB99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is electro-mechanical coupling  system is derived from nano to mesoscopic sca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Electro-Mechanic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3276720"/>
            <a:ext cx="2895840" cy="16074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 baseline="-25000">
                <a:solidFill>
                  <a:srgbClr val="3366ff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ntractil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iff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tion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56272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. Bestel, F. Clément, M. Sorine, A Biomechanical Model of Muscle Contraction,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ICCAI'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57200" y="3014640"/>
                <a:ext cx="529272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u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ε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u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0644-F674-42AD-95FE-83BC7C31C48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47920" y="4800600"/>
            <a:ext cx="5029200" cy="100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ified contraction stress </a:t>
            </a:r>
            <a:r>
              <a:rPr b="0" i="1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GB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started by action potential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58920" y="2209680"/>
                <a:ext cx="48434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d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k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d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d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t xml:space="preserve">dε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Electro-Mechanic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880" y="2209680"/>
            <a:ext cx="5410080" cy="1143000"/>
            <a:chOff x="380880" y="2209680"/>
            <a:chExt cx="5410080" cy="1143000"/>
          </a:xfrm>
        </p:grpSpPr>
        <p:sp>
          <p:nvSpPr>
            <p:cNvPr id="246" name=""/>
            <p:cNvSpPr/>
            <p:nvPr/>
          </p:nvSpPr>
          <p:spPr>
            <a:xfrm>
              <a:off x="380880" y="2209680"/>
              <a:ext cx="3809880" cy="1143000"/>
            </a:xfrm>
            <a:prstGeom prst="flowChartProcess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90760" y="2590920"/>
              <a:ext cx="1600200" cy="485640"/>
            </a:xfrm>
            <a:prstGeom prst="rightArrow">
              <a:avLst>
                <a:gd name="adj1" fmla="val 50000"/>
                <a:gd name="adj2" fmla="val 82376"/>
              </a:avLst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867280" y="2286000"/>
            <a:ext cx="3124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ecewise linear viscoelastic anisotrop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0880" y="3429000"/>
            <a:ext cx="4800600" cy="1980720"/>
            <a:chOff x="380880" y="3429000"/>
            <a:chExt cx="4800600" cy="1980720"/>
          </a:xfrm>
        </p:grpSpPr>
        <p:sp>
          <p:nvSpPr>
            <p:cNvPr id="250" name=""/>
            <p:cNvSpPr/>
            <p:nvPr/>
          </p:nvSpPr>
          <p:spPr>
            <a:xfrm>
              <a:off x="380880" y="3429000"/>
              <a:ext cx="4800600" cy="1134720"/>
            </a:xfrm>
            <a:prstGeom prst="flowChartProcess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07680" y="4631040"/>
              <a:ext cx="846000" cy="711000"/>
            </a:xfrm>
            <a:custGeom>
              <a:avLst/>
              <a:gdLst>
                <a:gd name="textAreaLeft" fmla="*/ 281880 w 846000"/>
                <a:gd name="textAreaRight" fmla="*/ 724680 w 846000"/>
                <a:gd name="textAreaTop" fmla="*/ 409680 h 711000"/>
                <a:gd name="textAreaBottom" fmla="*/ 609120 h 7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use a simplifie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CD50-16FE-4581-86B1-62FD20DF577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Finite Element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se a linear tetrahedral elemen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inear strain tensor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rom displac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tiffness matrix 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K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uted with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nsverse anisotrop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ternal Force = 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K.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343400" y="2895480"/>
                <a:ext cx="4114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E1B5-6C4B-47AC-8278-DBE249AD233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Simplified Contraction Stress </a:t>
            </a:r>
            <a:r>
              <a:rPr b="0" i="1" lang="en-GB" sz="4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GB" sz="4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pplied along the fibre dir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1828800"/>
            <a:ext cx="297180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ntraction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fibr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14400" y="1828800"/>
                <a:ext cx="3429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⊗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" name=""/>
          <p:cNvGrpSpPr/>
          <p:nvPr/>
        </p:nvGrpSpPr>
        <p:grpSpPr>
          <a:xfrm>
            <a:off x="380880" y="2743200"/>
            <a:ext cx="8382240" cy="3463200"/>
            <a:chOff x="380880" y="2743200"/>
            <a:chExt cx="8382240" cy="3463200"/>
          </a:xfrm>
        </p:grpSpPr>
        <p:pic>
          <p:nvPicPr>
            <p:cNvPr id="261" name="activationsimple" descr=""/>
            <p:cNvPicPr/>
            <p:nvPr/>
          </p:nvPicPr>
          <p:blipFill>
            <a:blip r:embed="rId2"/>
            <a:stretch/>
          </p:blipFill>
          <p:spPr>
            <a:xfrm>
              <a:off x="685800" y="3429000"/>
              <a:ext cx="4214880" cy="27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80880" y="2743200"/>
              <a:ext cx="838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6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: approximation of the coupling equ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6200" y="36831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68520" y="54640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57880" y="5715000"/>
              <a:ext cx="40176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61320" y="5764320"/>
              <a:ext cx="63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99120" y="342900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7400" y="342900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lax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2095560" y="3695760"/>
              <a:ext cx="304560" cy="3808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1446"/>
                  </a:lnTo>
                  <a:cubicBezTo>
                    <a:pt x="10800" y="12346"/>
                    <a:pt x="5400" y="13246"/>
                    <a:pt x="0" y="13246"/>
                  </a:cubicBezTo>
                  <a:cubicBezTo>
                    <a:pt x="5400" y="13246"/>
                    <a:pt x="10800" y="14146"/>
                    <a:pt x="10800" y="1504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2856960" y="333036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3696"/>
                  </a:lnTo>
                  <a:cubicBezTo>
                    <a:pt x="10800" y="4596"/>
                    <a:pt x="5400" y="5496"/>
                    <a:pt x="0" y="5496"/>
                  </a:cubicBezTo>
                  <a:cubicBezTo>
                    <a:pt x="5400" y="5496"/>
                    <a:pt x="10800" y="6396"/>
                    <a:pt x="10800" y="729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581280" y="403812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057400" y="4038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2880" y="3962520"/>
              <a:ext cx="365760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At time </a:t>
              </a:r>
              <a:r>
                <a:rPr b="0" i="1" lang="en-GB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i="1" lang="en-GB" sz="2800" spc="-1" strike="noStrike" baseline="-25000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action potential </a:t>
              </a:r>
              <a:r>
                <a:rPr b="0" i="1" lang="en-GB" sz="2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&gt; </a:t>
              </a:r>
              <a:r>
                <a:rPr b="0" i="1" lang="en-GB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force gene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during </a:t>
              </a:r>
              <a:r>
                <a:rPr b="0" i="1" lang="fr-FR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i="1" lang="fr-FR" sz="28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438280" y="4038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4952880"/>
              <a:ext cx="380880" cy="333360"/>
            </a:xfrm>
            <a:prstGeom prst="rightArrow">
              <a:avLst>
                <a:gd name="adj1" fmla="val 50000"/>
                <a:gd name="adj2" fmla="val 28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6360" y="4267080"/>
              <a:ext cx="45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0560" y="556272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10040" y="5562720"/>
              <a:ext cx="64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 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F1AB-5342-41C7-8C2D-699A08ABDAA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Numerical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lve iteratively the 2 PDE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) Compute action potential 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on the ventr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integra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) Compute mechanical contraction </a:t>
            </a:r>
            <a:r>
              <a:rPr b="0" i="1" lang="en-GB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i="1" lang="en-GB" sz="3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from action potential </a:t>
            </a:r>
            <a:r>
              <a:rPr b="0" i="1" lang="en-GB" sz="36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Houbolt semi-implici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integ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ED13-68DD-4D3B-AF37-F56CF832EC1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562720" y="59436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Contractio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724280" y="9907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80880" y="4952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ect of contraction stress tensor on a piecewise linear anisotropic 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54520" y="6130800"/>
            <a:ext cx="38124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17040" y="586728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fibre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2FAF-D71E-40E7-B311-93F3A4A4C21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lectrical wave propagatio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lectro-Mechanical coupli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teraction of the beating heart model with  4-D cardiac images 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work in progress)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469D-F119-464C-8E44-9540C400E8B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mprove mechanical and coupling model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ntegrate the model on a whole cardiac sequenc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djust electrical and mechanical parameters to a patient datas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B856-2713-4ED6-9904-CD4FE5794190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Previous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diac Imag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J. Frangi, W.J. Niessen, M.A. Viergever, Three-dimensional modeling for functional analysis of cardiac images: A review,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EEE Transactions on Medical Imaging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omechan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X. Papademetris, A.J. Sinusas, D.P. Dione, J.S. Duncan, Estimation of 3D left ventricle deformation from Echocardiography,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edical Image Analy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. Lin, R. Robb, A Framework for patient specific physics based simulation and interactive Visualisation of cardiac Dynamics,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ICCAI'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4952880"/>
            <a:ext cx="7487280" cy="1068840"/>
            <a:chOff x="762120" y="4952880"/>
            <a:chExt cx="7487280" cy="1068840"/>
          </a:xfrm>
        </p:grpSpPr>
        <p:sp>
          <p:nvSpPr>
            <p:cNvPr id="60" name=""/>
            <p:cNvSpPr/>
            <p:nvPr/>
          </p:nvSpPr>
          <p:spPr>
            <a:xfrm>
              <a:off x="762120" y="5229000"/>
              <a:ext cx="938880" cy="486000"/>
            </a:xfrm>
            <a:prstGeom prst="rightArrow">
              <a:avLst>
                <a:gd name="adj1" fmla="val 50000"/>
                <a:gd name="adj2" fmla="val 4829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7560" y="4952880"/>
              <a:ext cx="5901840" cy="106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Key idea: to combine electrical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mechanical and image constraint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5764-5AF4-4139-9322-E3CB014921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6553080" y="1905120"/>
            <a:ext cx="2453760" cy="4419360"/>
            <a:chOff x="6553080" y="1905120"/>
            <a:chExt cx="2453760" cy="4419360"/>
          </a:xfrm>
        </p:grpSpPr>
        <p:sp>
          <p:nvSpPr>
            <p:cNvPr id="63" name=""/>
            <p:cNvSpPr/>
            <p:nvPr/>
          </p:nvSpPr>
          <p:spPr>
            <a:xfrm>
              <a:off x="6553080" y="1905120"/>
              <a:ext cx="2438640" cy="441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9400" y="1981080"/>
              <a:ext cx="2286000" cy="119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ec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entricular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vfunc" descr=""/>
            <p:cNvPicPr/>
            <p:nvPr/>
          </p:nvPicPr>
          <p:blipFill>
            <a:blip r:embed="rId2"/>
            <a:stretch/>
          </p:blipFill>
          <p:spPr>
            <a:xfrm>
              <a:off x="6934320" y="3276720"/>
              <a:ext cx="1714320" cy="1828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6" name=""/>
            <p:cNvSpPr/>
            <p:nvPr/>
          </p:nvSpPr>
          <p:spPr>
            <a:xfrm>
              <a:off x="6553800" y="5105520"/>
              <a:ext cx="2453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teraction wi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rdiac im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(work in prog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Key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d a “Beating Heart Model” that contracts under electrical exc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48120" y="1905120"/>
            <a:ext cx="3276360" cy="4267080"/>
            <a:chOff x="3048120" y="1905120"/>
            <a:chExt cx="3276360" cy="4267080"/>
          </a:xfrm>
        </p:grpSpPr>
        <p:pic>
          <p:nvPicPr>
            <p:cNvPr id="70" name="vague" descr=""/>
            <p:cNvPicPr/>
            <p:nvPr/>
          </p:nvPicPr>
          <p:blipFill>
            <a:blip r:embed="rId3"/>
            <a:stretch/>
          </p:blipFill>
          <p:spPr>
            <a:xfrm>
              <a:off x="4876920" y="2590920"/>
              <a:ext cx="1344600" cy="1447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1" name=""/>
            <p:cNvSpPr/>
            <p:nvPr/>
          </p:nvSpPr>
          <p:spPr>
            <a:xfrm>
              <a:off x="3048120" y="1905120"/>
              <a:ext cx="3276360" cy="426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50520" y="289584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lectr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6720" y="1981440"/>
              <a:ext cx="289548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eating Heart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3" idx="2"/>
              <a:endCxn id="72" idx="1"/>
            </p:cNvCxnSpPr>
            <p:nvPr/>
          </p:nvCxnSpPr>
          <p:spPr>
            <a:xfrm rot="5400000">
              <a:off x="3608280" y="2191680"/>
              <a:ext cx="859680" cy="1372320"/>
            </a:xfrm>
            <a:prstGeom prst="bentConnector4">
              <a:avLst>
                <a:gd name="adj1" fmla="val 26057"/>
                <a:gd name="adj2" fmla="val 11666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24280" y="4572000"/>
            <a:ext cx="152424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6" name=""/>
          <p:cNvGrpSpPr/>
          <p:nvPr/>
        </p:nvGrpSpPr>
        <p:grpSpPr>
          <a:xfrm>
            <a:off x="3040560" y="3306600"/>
            <a:ext cx="2898720" cy="1633320"/>
            <a:chOff x="3040560" y="3306600"/>
            <a:chExt cx="2898720" cy="1633320"/>
          </a:xfrm>
        </p:grpSpPr>
        <p:sp>
          <p:nvSpPr>
            <p:cNvPr id="77" name=""/>
            <p:cNvSpPr/>
            <p:nvPr/>
          </p:nvSpPr>
          <p:spPr>
            <a:xfrm>
              <a:off x="3349080" y="4114440"/>
              <a:ext cx="259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lectro-Mechan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up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2" idx="1"/>
              <a:endCxn id="77" idx="1"/>
            </p:cNvCxnSpPr>
            <p:nvPr/>
          </p:nvCxnSpPr>
          <p:spPr>
            <a:xfrm flipH="1" flipV="1" rot="10800000">
              <a:off x="3351600" y="3306240"/>
              <a:ext cx="2520" cy="121968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9" name=""/>
          <p:cNvSpPr/>
          <p:nvPr/>
        </p:nvSpPr>
        <p:spPr>
          <a:xfrm>
            <a:off x="6095880" y="20574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52280" y="1905120"/>
            <a:ext cx="2590920" cy="3457440"/>
            <a:chOff x="152280" y="1905120"/>
            <a:chExt cx="2590920" cy="3457440"/>
          </a:xfrm>
        </p:grpSpPr>
        <p:sp>
          <p:nvSpPr>
            <p:cNvPr id="81" name=""/>
            <p:cNvSpPr/>
            <p:nvPr/>
          </p:nvSpPr>
          <p:spPr>
            <a:xfrm>
              <a:off x="228600" y="1981080"/>
              <a:ext cx="243828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eometric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geom" descr=""/>
            <p:cNvPicPr/>
            <p:nvPr/>
          </p:nvPicPr>
          <p:blipFill>
            <a:blip r:embed="rId5"/>
            <a:stretch/>
          </p:blipFill>
          <p:spPr>
            <a:xfrm>
              <a:off x="457200" y="2514600"/>
              <a:ext cx="1933560" cy="2057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3" name=""/>
            <p:cNvSpPr/>
            <p:nvPr/>
          </p:nvSpPr>
          <p:spPr>
            <a:xfrm>
              <a:off x="152280" y="1905120"/>
              <a:ext cx="259092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3440" y="4537080"/>
              <a:ext cx="232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Volumetric He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e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76520" y="2057400"/>
            <a:ext cx="1676160" cy="3998160"/>
            <a:chOff x="1676520" y="2057400"/>
            <a:chExt cx="1676160" cy="3998160"/>
          </a:xfrm>
        </p:grpSpPr>
        <p:sp>
          <p:nvSpPr>
            <p:cNvPr id="86" name=""/>
            <p:cNvSpPr/>
            <p:nvPr/>
          </p:nvSpPr>
          <p:spPr>
            <a:xfrm>
              <a:off x="2590920" y="205740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5595840"/>
              <a:ext cx="1066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6880" y="5638680"/>
              <a:ext cx="685800" cy="408240"/>
            </a:xfrm>
            <a:prstGeom prst="rightArrow">
              <a:avLst>
                <a:gd name="adj1" fmla="val 50000"/>
                <a:gd name="adj2" fmla="val 4199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313D-374E-4E59-A2DB-C7F514B6D8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Long-term 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774440"/>
            <a:ext cx="6934320" cy="9558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ild a generic heart model and a procedure to adjust its parameters to any specific pa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838080"/>
            <a:ext cx="74674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INRIA Collaborative Research Action ICEM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(Images of the Cardiac Electro-Mechanical Ac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747000" y="1842840"/>
            <a:ext cx="609840" cy="428760"/>
          </a:xfrm>
          <a:custGeom>
            <a:avLst/>
            <a:gdLst>
              <a:gd name="textAreaLeft" fmla="*/ 203400 w 609840"/>
              <a:gd name="textAreaRight" fmla="*/ 522360 w 609840"/>
              <a:gd name="textAreaTop" fmla="*/ 246960 h 428760"/>
              <a:gd name="textAreaBottom" fmla="*/ 3672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124080"/>
            <a:ext cx="2667240" cy="28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RIA Pro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pidaure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sso 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hilips Resea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95480" y="2819520"/>
            <a:ext cx="5943600" cy="3809880"/>
            <a:chOff x="2895480" y="2819520"/>
            <a:chExt cx="5943600" cy="3809880"/>
          </a:xfrm>
        </p:grpSpPr>
        <p:sp>
          <p:nvSpPr>
            <p:cNvPr id="95" name=""/>
            <p:cNvSpPr/>
            <p:nvPr/>
          </p:nvSpPr>
          <p:spPr>
            <a:xfrm>
              <a:off x="2895480" y="2819520"/>
              <a:ext cx="594360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schemasimple" descr=""/>
            <p:cNvPicPr/>
            <p:nvPr/>
          </p:nvPicPr>
          <p:blipFill>
            <a:blip r:embed="rId2"/>
            <a:stretch/>
          </p:blipFill>
          <p:spPr>
            <a:xfrm>
              <a:off x="2971800" y="3124080"/>
              <a:ext cx="5715000" cy="32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B0A9-5AD0-4591-9F94-B922248A14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ardiac Image Intera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Geometri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eating Hear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o-Mechan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7DFD-2628-45EF-9312-F16BB692B9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430440" y="2286000"/>
            <a:ext cx="5160960" cy="2730600"/>
            <a:chOff x="3430440" y="2286000"/>
            <a:chExt cx="5160960" cy="2730600"/>
          </a:xfrm>
        </p:grpSpPr>
        <p:pic>
          <p:nvPicPr>
            <p:cNvPr id="100" name="echotemp" descr=""/>
            <p:cNvPicPr/>
            <p:nvPr/>
          </p:nvPicPr>
          <p:blipFill>
            <a:blip r:embed="rId2"/>
            <a:stretch/>
          </p:blipFill>
          <p:spPr>
            <a:xfrm>
              <a:off x="3505320" y="2286000"/>
              <a:ext cx="5086080" cy="2730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3430440" y="34527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C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92240" y="4572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4-D Ultrasound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-D images obtained with a rotating 2-D pr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lindric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133720"/>
            <a:ext cx="52578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ages: Phi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1055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Real-Time 3-D images yet       4-D ultrasound sequences synchronised on EC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robe" descr=""/>
          <p:cNvPicPr/>
          <p:nvPr/>
        </p:nvPicPr>
        <p:blipFill>
          <a:blip r:embed="rId3"/>
          <a:stretch/>
        </p:blipFill>
        <p:spPr>
          <a:xfrm>
            <a:off x="609480" y="2743200"/>
            <a:ext cx="2743200" cy="186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267080" y="2286000"/>
            <a:ext cx="222264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71800" y="1600200"/>
            <a:ext cx="519120" cy="380880"/>
          </a:xfrm>
          <a:prstGeom prst="rightArrow">
            <a:avLst>
              <a:gd name="adj1" fmla="val 50000"/>
              <a:gd name="adj2" fmla="val 3407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25780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F2ED-0D72-4583-966C-2F78DC28D1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Deformable Beating Hear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deformable model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fra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ternal Energ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distance to the closest boundary featu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rnal Energ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Electro-Mechanical Beating Heart model to be described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95680"/>
            <a:ext cx="609624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age Interac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ages of cylindric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iffness of volumetr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maillagecyl" descr=""/>
          <p:cNvPicPr/>
          <p:nvPr/>
        </p:nvPicPr>
        <p:blipFill>
          <a:blip r:embed="rId2"/>
          <a:stretch/>
        </p:blipFill>
        <p:spPr>
          <a:xfrm>
            <a:off x="6629400" y="3962520"/>
            <a:ext cx="21207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E7D1-E32F-495E-B66E-648C0CB760B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Times New Roman"/>
              </a:rPr>
              <a:t>Cardiac Image Intera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Geometri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2b2b2"/>
                </a:solidFill>
                <a:latin typeface="Times New Roman"/>
              </a:rPr>
              <a:t>Beating Heart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Times New Roman"/>
              </a:rPr>
              <a:t>Electr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Times New Roman"/>
              </a:rPr>
              <a:t>Electro-Mechan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8553-13C9-4606-8326-F65B810107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14:20:52Z</dcterms:created>
  <dc:creator>Maxime Sermesant</dc:creator>
  <dc:description/>
  <dc:language>en-US</dc:language>
  <cp:lastModifiedBy>msermesa</cp:lastModifiedBy>
  <cp:lastPrinted>2000-04-27T15:24:36Z</cp:lastPrinted>
  <dcterms:modified xsi:type="dcterms:W3CDTF">2001-10-16T11:46:46Z</dcterms:modified>
  <cp:revision>1061</cp:revision>
  <dc:subject/>
  <dc:title>Utilisation d ’un Modèle biomécanique du coeur</dc:title>
</cp:coreProperties>
</file>